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7C97-0A1D-4274-BFF2-5754BC8E0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3380-9281-4986-885E-F71F4C0E3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556B-504C-4F5E-8470-32E103AE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6EE4-5CE6-4A0F-9C2E-4518BEA51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CA08-207A-4ACB-AA00-78000C0F0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26C0-8458-42E5-8386-EC92459E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33AE-F8C3-48E5-9B99-64ACF335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B227-92AF-459A-AB24-6BDC0B3F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BAF-3C3D-4CEA-9BC7-7F9155C7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1B9-D9DF-44C5-8E21-31911738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998-C85E-4F3E-A955-7BD1F6AE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6EC-B1C1-4D48-B189-F13FD2A2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AF1-4785-4364-B68B-EC9E8BCE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88F-F667-442B-8952-8B65BB75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EB0-51B6-4A18-AAAE-1A1669FF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E24-A529-4AED-AF0B-CF6A08B7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C99-AA94-444D-84F1-DC6A09AA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D20-DFB2-433F-AC14-242B8648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9E8-73F3-4419-86FC-4CDD29B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A8A-9CB2-43F7-AAA2-9A3E5E23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F221-FD06-4AFA-BC12-5CEEC2A37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 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 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x and y ar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the y 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graph a line in slope intercep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ocation of the y intercept on the y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point with a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’s Rise (up or down depending on if the slope is positive or negati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’s Run (move righ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new point with a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066680" y="1447920"/>
                <a:ext cx="27432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6"/>
          <p:cNvSpPr/>
          <p:nvPr/>
        </p:nvSpPr>
        <p:spPr>
          <a:xfrm>
            <a:off x="1066680" y="30481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772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990720" y="1447920"/>
                <a:ext cx="22096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 Box 6"/>
          <p:cNvSpPr/>
          <p:nvPr/>
        </p:nvSpPr>
        <p:spPr>
          <a:xfrm>
            <a:off x="1219320" y="32767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 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381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5800" y="1676520"/>
                <a:ext cx="26668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Text Box 6"/>
          <p:cNvSpPr/>
          <p:nvPr/>
        </p:nvSpPr>
        <p:spPr>
          <a:xfrm>
            <a:off x="762120" y="312408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f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 – 4x +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000680" cy="3619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609480" y="464832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33520" y="22096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x                             -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4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609480" y="1371600"/>
                <a:ext cx="38102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533520" y="2590920"/>
            <a:ext cx="43434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for 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nus 3x from both sides then divide by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8"/>
              <p:cNvSpPr txBox="1"/>
              <p:nvPr/>
            </p:nvSpPr>
            <p:spPr>
              <a:xfrm>
                <a:off x="533520" y="3962520"/>
                <a:ext cx="403848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2" name="Picture 10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8480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3:41:21Z</dcterms:created>
  <dc:creator>Troy Clarke</dc:creator>
  <dc:description/>
  <dc:language>en-US</dc:language>
  <cp:lastModifiedBy>Floyd Stensrud</cp:lastModifiedBy>
  <dcterms:modified xsi:type="dcterms:W3CDTF">2009-11-19T13:54:37Z</dcterms:modified>
  <cp:revision>8</cp:revision>
  <dc:subject/>
  <dc:title>Slope Intercept Form</dc:title>
</cp:coreProperties>
</file>